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9BA5-B449-4756-B898-5CD43BEC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C3C7-FB6F-47CF-A860-0AF40C99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3159-0633-4160-800C-051100A87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3BB3-347F-4668-A185-9F63B5D87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967D1-46B8-4F4E-9CCA-029EAEC2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029F7-447C-4D68-8674-13059FF0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1F405-83B6-4411-B19C-35330A8E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6B4CC-0C23-4176-937B-B8003887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01E51-B5E8-4FAE-9ACA-B386628E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8A547-4DFB-4772-A71A-57E9DDE3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72DD0-0E0F-4964-AC1D-731654A5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AF53-7971-494F-89F1-7C0A36AD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7450D1-12FA-4A88-9E58-9D23A7A4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45E92-D707-4569-B600-BDE9BE30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FD143-DC6A-4CEB-A91D-8439B863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FE3F8-A4E4-46F5-A2D9-BB29D871A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A825E-77DF-4877-B266-EB96CDDB9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444D-CA05-4F21-995C-F41D6EE7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3AF6-2002-454C-9366-8EE30869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B96E-08D1-4FE8-9C18-C14F6560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946E-DF34-4B58-8684-55C1B61F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161B-08AF-48CB-A854-E96972B3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2CA6-EC66-47A0-B329-0D3E95C6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C65B-B9A6-45C6-B8B0-151D6A04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80A1-1060-4FA9-81AF-994F91B26E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663B-FBF4-4439-845F-4CB77A51A7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image" Target="../media/image18.jpeg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e3e3ff"/>
                </a:solidFill>
                <a:latin typeface="Arial"/>
              </a:rPr>
              <a:t>Polic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By Sel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04000" y="3573360"/>
            <a:ext cx="1800360" cy="1500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39640" y="727200"/>
            <a:ext cx="20876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Thank you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I hope you have learnt so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some th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012000" y="600120"/>
            <a:ext cx="936360" cy="772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572000" y="350028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1908000" y="3213000"/>
            <a:ext cx="20876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Police Equipm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Hand Cuf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Ba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a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Handcuff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Pocket kn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o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S.R.B.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Pepper spr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03640" y="148428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360360" cy="272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2268360" y="2133720"/>
            <a:ext cx="441360" cy="460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468360" y="2205000"/>
            <a:ext cx="431640" cy="331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2195640" y="2708280"/>
            <a:ext cx="576000" cy="431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3564000" y="2852640"/>
            <a:ext cx="487440" cy="766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3419640" y="3789360"/>
            <a:ext cx="576000" cy="476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2124000" y="429264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9"/>
          <a:stretch/>
        </p:blipFill>
        <p:spPr>
          <a:xfrm>
            <a:off x="2700360" y="4653000"/>
            <a:ext cx="515880" cy="623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0"/>
          <a:stretch/>
        </p:blipFill>
        <p:spPr>
          <a:xfrm>
            <a:off x="3635280" y="5157720"/>
            <a:ext cx="257400" cy="687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1"/>
          <a:stretch/>
        </p:blipFill>
        <p:spPr>
          <a:xfrm>
            <a:off x="468360" y="2708280"/>
            <a:ext cx="431640" cy="3459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2"/>
          <a:stretch/>
        </p:blipFill>
        <p:spPr>
          <a:xfrm>
            <a:off x="468360" y="3213000"/>
            <a:ext cx="431640" cy="316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3"/>
          <a:stretch/>
        </p:blipFill>
        <p:spPr>
          <a:xfrm>
            <a:off x="468360" y="3789360"/>
            <a:ext cx="431640" cy="360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4"/>
          <a:stretch/>
        </p:blipFill>
        <p:spPr>
          <a:xfrm>
            <a:off x="468360" y="429264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5"/>
          <a:stretch/>
        </p:blipFill>
        <p:spPr>
          <a:xfrm>
            <a:off x="468360" y="486900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6"/>
          <a:stretch/>
        </p:blipFill>
        <p:spPr>
          <a:xfrm>
            <a:off x="468360" y="5445000"/>
            <a:ext cx="36036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positive                  Ba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elp us to keep sa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each us about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elp us solve probl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Share ides with 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42920" y="1628280"/>
            <a:ext cx="4038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Danger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lways need to be ti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Wake up early someti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ard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708360" y="620640"/>
            <a:ext cx="574560" cy="574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812000" y="549360"/>
            <a:ext cx="5050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e3e3ff"/>
                </a:solidFill>
                <a:latin typeface="Arial"/>
              </a:rPr>
              <a:t>The kinds of roles a police dog will do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Bodoni MT"/>
              </a:rPr>
              <a:t>.Search and rescue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Bodoni MT"/>
              </a:rPr>
              <a:t>including avalanche resc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Bodoni MT"/>
              </a:rPr>
              <a:t>.Deployment with the ar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Bodoni MT"/>
              </a:rPr>
              <a:t>Offender squ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Bodoni MT"/>
              </a:rPr>
              <a:t>.Firearm detection 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Bodoni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Bodoni MT"/>
              </a:rPr>
              <a:t>.Drug detection in small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Bodoni MT"/>
              </a:rPr>
              <a:t>Centres that do not have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Bodoni MT"/>
              </a:rPr>
              <a:t>Specialist do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 rot="579000">
            <a:off x="5076720" y="1771200"/>
            <a:ext cx="2590920" cy="1808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 rot="20841600">
            <a:off x="5292360" y="4149720"/>
            <a:ext cx="273528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Roles some police might 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42800" y="1600200"/>
            <a:ext cx="8208360" cy="4462560"/>
            <a:chOff x="442800" y="1600200"/>
            <a:chExt cx="8208360" cy="4462560"/>
          </a:xfrm>
        </p:grpSpPr>
        <p:cxnSp>
          <p:nvCxnSpPr>
            <p:cNvPr id="155" name="_s17422"/>
            <p:cNvCxnSpPr>
              <a:stCxn id="156" idx="0"/>
              <a:endCxn id="157" idx="2"/>
            </p:cNvCxnSpPr>
            <p:nvPr/>
          </p:nvCxnSpPr>
          <p:spPr>
            <a:xfrm flipV="1" rot="16200000">
              <a:off x="5536800" y="23940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8" name="_s17421"/>
            <p:cNvCxnSpPr>
              <a:stCxn id="159" idx="0"/>
              <a:endCxn id="157" idx="2"/>
            </p:cNvCxnSpPr>
            <p:nvPr/>
          </p:nvCxnSpPr>
          <p:spPr>
            <a:xfrm flipV="1">
              <a:off x="4547160" y="3384360"/>
              <a:ext cx="3600" cy="893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0" name="_s17420"/>
            <p:cNvCxnSpPr>
              <a:stCxn id="161" idx="0"/>
              <a:endCxn id="157" idx="2"/>
            </p:cNvCxnSpPr>
            <p:nvPr/>
          </p:nvCxnSpPr>
          <p:spPr>
            <a:xfrm flipH="1" flipV="1" rot="5400000">
              <a:off x="2664000" y="23943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57" name="_s17416"/>
            <p:cNvSpPr/>
            <p:nvPr/>
          </p:nvSpPr>
          <p:spPr>
            <a:xfrm>
              <a:off x="3315600" y="16002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100" spc="-1" strike="noStrike">
                  <a:solidFill>
                    <a:srgbClr val="ffffff"/>
                  </a:solidFill>
                  <a:latin typeface="Arial"/>
                </a:rPr>
                <a:t>Educational officer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_s17417"/>
            <p:cNvSpPr/>
            <p:nvPr/>
          </p:nvSpPr>
          <p:spPr>
            <a:xfrm>
              <a:off x="442800" y="42778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100" spc="-1" strike="noStrike">
                  <a:solidFill>
                    <a:srgbClr val="ffffff"/>
                  </a:solidFill>
                  <a:latin typeface="Arial"/>
                </a:rPr>
                <a:t>Traffic officer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_s17418"/>
            <p:cNvSpPr/>
            <p:nvPr/>
          </p:nvSpPr>
          <p:spPr>
            <a:xfrm>
              <a:off x="3315600" y="42778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100" spc="-1" strike="noStrike">
                  <a:solidFill>
                    <a:srgbClr val="ffffff"/>
                  </a:solidFill>
                  <a:latin typeface="Arial"/>
                </a:rPr>
                <a:t>Dog handler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_s17419"/>
            <p:cNvSpPr/>
            <p:nvPr/>
          </p:nvSpPr>
          <p:spPr>
            <a:xfrm>
              <a:off x="6188760" y="42778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NZ" sz="2100" spc="-1" strike="noStrike">
                  <a:solidFill>
                    <a:srgbClr val="ffffff"/>
                  </a:solidFill>
                  <a:latin typeface="Arial"/>
                </a:rPr>
                <a:t>Dispatcher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1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100" spc="-1" strike="noStrike">
                  <a:solidFill>
                    <a:srgbClr val="ffffff"/>
                  </a:solidFill>
                  <a:latin typeface="Arial"/>
                </a:rPr>
                <a:t>Search and rescue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 rot="413400">
            <a:off x="6227640" y="2133720"/>
            <a:ext cx="2376720" cy="1584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 rot="21128400">
            <a:off x="394920" y="2060280"/>
            <a:ext cx="252108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Police dogs on the g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71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718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457200" y="3924360"/>
            <a:ext cx="4038480" cy="21715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4648320" y="3924360"/>
            <a:ext cx="4038480" cy="21715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 rot="21072600">
            <a:off x="1258560" y="1699920"/>
            <a:ext cx="2771640" cy="1847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 rot="390600">
            <a:off x="5363640" y="1844640"/>
            <a:ext cx="2953080" cy="19875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7"/>
          <a:stretch/>
        </p:blipFill>
        <p:spPr>
          <a:xfrm>
            <a:off x="5219640" y="4005360"/>
            <a:ext cx="3132360" cy="2097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8"/>
          <a:stretch/>
        </p:blipFill>
        <p:spPr>
          <a:xfrm>
            <a:off x="971640" y="4076640"/>
            <a:ext cx="324000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Police vehicl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Most police cars have markings, such as high vi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Strips, flashing lights and a loud siren. Underne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 bonnet, some cars also have special engines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Generate lots of pow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843280" y="3863880"/>
            <a:ext cx="475308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SWAT tea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003640" y="4149720"/>
            <a:ext cx="3456000" cy="23115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SWAT stands for special Weapons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actics. SWAT teams and other spe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Operations units are trained to per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High risk operation, such as hosta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Rescu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Traffic Poli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68360" y="162828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One of the major roles of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Police is to make the roa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safer. Hundreds of peopl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Including children, are kil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On our roads every year 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Traffic crashes. Thousa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Of people are also badl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Injur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 rot="20830200">
            <a:off x="4571640" y="2491920"/>
            <a:ext cx="360036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21:04:42Z</dcterms:created>
  <dc:creator>5e23</dc:creator>
  <dc:description/>
  <dc:language>en-US</dc:language>
  <cp:lastModifiedBy>5e23</cp:lastModifiedBy>
  <dcterms:modified xsi:type="dcterms:W3CDTF">2011-09-08T02:40:52Z</dcterms:modified>
  <cp:revision>5</cp:revision>
  <dc:subject/>
  <dc:title>Police</dc:title>
</cp:coreProperties>
</file>